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9E4-05C1-4B89-902E-2BB0AA10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D9E-D0B9-4B7F-9D42-3E3A62F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46F-040B-4600-892B-8C3B70F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82D-C96E-430B-B5A6-EE4A1DF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A46-B91A-496A-B3D2-8B7B0787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E7B7-A446-4179-87FF-1EF2B88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D8E-D54D-4C0E-9CFF-FAF6B60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3B7-F5FB-4F72-AC72-05C3DF24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7C52-B228-49F5-B3EE-69283CA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956-19CE-421D-96CE-454FFD01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F37-387E-4123-AC50-0D1320AF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4C7-261B-4CBD-B1BD-244867E4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8E6-B4E0-4BEF-9582-CC5A225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B537-1B41-4382-9BFB-FB520F7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FE8-180E-40FF-B975-7DEF7057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00EC-6EF3-4A28-A8B2-0C4D24D2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E1E3-5EA2-49FD-BE3C-1D22FF7E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D62-FE8C-467C-8779-4C2E7D7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5FA-1CCB-4C6B-958D-223FBC2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6CF-04B3-4D57-82B2-E91E51EC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E64-69AC-405F-926A-58E04E9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C61-C939-4F3B-A2C1-92D4C1F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75C-92DF-48A4-81E0-243E1ADB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569-6EBD-42D9-88BB-8C7CCCF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94AEBB-B047-4126-A7D6-14B1FA458AD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DE4146-A350-44FE-BCB7-E478A07ED8A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3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Биограф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56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Родился в 1540 году в Фонтене-ле-Конт французской провинции Пуату — Шарант. Отец Виета был юристом, а мать (Маргарита Дюпон) происходила из знатной семьи, что облегчило дальнейшую карьеру её сы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Учился сначала в местном францисканском монастыре, а затем — в университете Пуатье, где получил степень бакалавра (1560). С 19 лет занимался адвокатской практикой в родном го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Около 1570 года подготовил «Математический Канон» — труд по тригонометрии, — который издал в Париже в 1579 году</a:t>
            </a: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27640" y="1989000"/>
            <a:ext cx="2729160" cy="39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 1571 году переехал в Париж и вскоре перешёл на государственную службу, но увлечение его математикой продолжало 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Благодаря связям матери и браку своей ученицы с принцем де Роганом Виет сделал блестящую карьеру и стал советником сначала короля Генриха III, а после его убийства — Генриха IV. По поручению Генриха IV Виет сумел расшифровать переписку испанских агентов во Франции, за что был даже обвинён испанским королём Филиппом II в использовании чёрной маги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Когда в результате придворных интриг Виет был на несколько лет устранён от дел (1584—1588), он полностью посвятил себя математике. Изучил труды классиков (Кардано, Бомбелли, Стевина и др.). Итогом его размышлений стали несколько трудов, в которых Виет предложил новый язык «общей арифметики» — символический язык алгеб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Только часть трудов этого талантливого и плодовитого учёного была издана при жизни Виета. Главное его сочинение: «Введение в аналитическое искусство» (1591), которое он рассматривал как начало всеобъемлющего трактата, но продолжить не успел. Есть некоторые указания, что учёный умер насильственной смер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Научная деятель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иет чётко представлял себе конечную цель — разработку нового языка, своего рода обобщённой арифметики, которая даст возможность проводить математические исследования с недостижимыми ранее глубиной и общность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се математики знали, что под их алгеброй… были скрыты несравненные сокровища, но не умели их найти; задачи, которые они считали наиболее трудными, совершенно легко решаются десятками с помощью нашего искусства, представляющего поэтому самый верный путь для математических изыск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иет всюду делит изложение на две части: общие законы и их конкретно-числовые реализации. То есть он сначала решает задачи в общем виде, и только потом приводит числовые примеры. В общей части он обозначает буквами не только неизвестные, что уже встречалось ранее, но и все прочие параметры, для которых он придумал термин «коэффициенты» (буквально: содействующие). Виет использовал для этого только заглавные буквы — гласные для неизвестных, согласные для коэффици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Другие заслуги Вие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знаменитые «формулы Виета» для коэффициентов многочлена как функций его кор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новый тригонометрический метод решения неприводимого кубического уравнения, применимый также для трисекции уг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первый пример бесконечного произве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643280" cy="1020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4005360"/>
            <a:ext cx="8280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полное аналитическое изложение теории уравнений первых четырёх степе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идея применения трансцендентных функций к решению алгебраических уравн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оригинальный метод приближённого решения алгебраических уравнений с числовыми коэффици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radley Hand ITC"/>
              </a:rPr>
              <a:t>Новая система позволила просто, ясно и компактно описать общие законы арифметики и алгоритмы. Символика Виета была сразу же оценена учёными разных стран, которые приступили к её совершенствованию. Английский учёный Томас Хэрриот в своём посмертно изданном (1631) труде уже очень близок к современной символике: вместо заглавных букв применяет строчные, степени записывает не словесно, а мультипликативно (aaa вместо a3), использует знак равенства (предложенный в 1557 году Робертом Рекордом), а также придуманные самим Хэрриотом символы сравнения «&gt;» и «&lt;». Практически окончательный вид алгебраической символике придал Декар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Работу выполни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бята 9 «г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группа «Исто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3:46:27Z</dcterms:created>
  <dc:creator>1</dc:creator>
  <dc:description/>
  <dc:language>en-US</dc:language>
  <cp:lastModifiedBy>1</cp:lastModifiedBy>
  <dcterms:modified xsi:type="dcterms:W3CDTF">2011-09-21T09:52:38Z</dcterms:modified>
  <cp:revision>3</cp:revision>
  <dc:subject/>
  <dc:title>Биография</dc:title>
</cp:coreProperties>
</file>